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0864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89F-206F-4F83-B70C-21ABA4AB769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of experimental research and list the basic steps involved in conducting and controlling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define internal validity and describe eight major threats to the internal validity of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17440"/>
            <a:ext cx="68580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umerous challenges for experimental studies in educational setti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ck of sufficient exposure to treatments (i.e., treatments are too short or diffu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make treatments significantly different from one another (e.g., an experimental instructional program in math may not be different enough from the comparison math instructional program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17440"/>
            <a:ext cx="67057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ipulation and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, researchers control or remove the influence of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smic (e.g., 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ing (e.g., inter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variables (e.g., school or teacher effe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alidity refers to the degree to which observed differences in the dependent variable are a direct result of manipulation of the independent variable and not some 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alidity is concerned with rival explanations for an eff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alidity, sometimes referred to as ecological validity, is the degree to which the results from a study are generalizable to other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increase the internal validity of their study, they decrease their ex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are concerned with external validity, their ability to control important extraneous variables suff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re is a choice, researchers should err on the side of control and maximize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selection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-maturation and interactiv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event occurring during a study that is not part of the experimental treatment but that may effect the dependent variable represents a history thr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-lasting studies are more prone to history thre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threat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tudy of the effects of instructional simulations in learning chemistry content, a history threat would be demonstrated if students in the study were exposed to simulations in a different setting, such as when learning geography, while the study was being conducte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ation refers to physical, intellectual, and emotional changes that naturally occur within participants over a period of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uration threat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tudies of interventions that are designed to increase children’s theory of mind, if the interventions lasted more than a couple of weeks at critical time points, participants may gain critical theory of mind awareness simply due to cognitive development and not due to th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define external validity and describe six major threats to the external validity of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briefly describe five ways to control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s a threat to internal validity is demonstrated when taking a pretest alters the result of a post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ation is a threat to internal validity when the instrumentation is either unreliable or is changed between pre- and posttest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ely high or low scores tend to regress to the mean on ret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regression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tudents perform poorly on a pretest it is difficult to determine if the gain in their scores is due to treatment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selection of 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in the control and experimental groups differ in ways that influence the dependent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drop out of the study at differential rates across cond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can interact with other threats to internal validity (i.e., history, maturation, instrumentatio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selected into the treatment and control conditions have different experiences or maturation rates or instrumentation varies across cond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validity threats can be divided into two catego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ing to whom’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affecting groups to which the study can be gene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ing to what’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affecting the settings, conditions, variables, and contexts to which the results can be gene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-treatment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ity of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er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threat occurs when participants respond differently to a treatment because they have been exposed to a prete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st may alert participa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port measures are often susceptible to pretest-treatment interactio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imes, unobtrusive measures can be used as pretests, to limit this threat to validity (e.g., using previously administered standardized assessments to measure ability in science instead of using a pretes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provide examples of single-variable designs (i.e., pre-experimental, true experimental, and quasi-experimental designs) and factorial designs, and explain how they diff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-treatment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threat occurs when previous treatments cross-over into a current experiment.  This makes it challenging to determine the effectiveness of the later treat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hreat may occur in studies that access participants who have been exposed to other research studies (e.g., university participant poo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study’s findings only apply to the groups selected and are not representative of other grou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happen in non-randomly assigned studies where a treatment is less or more effective for certain demographics (e.g., ability leve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ity of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do not adequately define their variables, instruments, or population, it makes it difficult to determine how well the findings will generalize to an alternative popu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er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er effects occur when characteristics or behaviors of the experimenter influence the participants’ respo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threats are also referred to as participant effects.  These threats are associated with differences in participants’ behavior, feelings, and attitudes because they are in a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wthorne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y situation in which participants’ behavior is affected because they are in a stud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ohn Henry effect (Compensatory rivalry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mbers of the control group compete with the experimental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bo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combat compensatory rivalry, researchers attempt to give control groups a placebo, not the experimental treatment, but something to decrease the perception that they are in the control group. Participants should perceive they are all getting the same th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velty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participants are engaged in something different this may increase attention, interest, behavior, learning, etc., just because it is something new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lidity of an experiment is a function of the degree to which extraneous variables ar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ization is the best mechanism to control for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ization distinguishes experimental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ization should be used whenever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groups cannot be randomly formed, variables should be held constant when at all possible (e.g., time of day, which researcher is pres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variables can be controlled and held cons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can equate groups through random assignment of pai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homogeneous groups allows the researcher to control for extraneous variabl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can serve as their own controls to control for participant dif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covariance (ANCOVA) is a statistical procedure that can be used to control for participant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s the only type of research that can test hypotheses to establish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nipulates at least one independent variable and controls other relevant variables, and observes the effect on one or more dependent variab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nipulates the trea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has control over selection and assign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Group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ngle-variable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y design that involves one manipulated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adequately control for extraneous variables and should be avoi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ue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fer a very high degree of control and are always preferred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si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control as well as experimental designs but are preferable over pre-experimental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Group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i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y design that involves two or more independent variables, at least one that is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shot case stu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a single group that is exposed to a treatment (X) and then posttested (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ts to validity are not adequately controlled with this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e this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group pretest-posttest desig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a single group that is pretested, exposed to treatment, and then tested ag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 of the treatment is determined by comparing pretest and posttest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does not control for history, testing, instrumentation, regression, or matur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regression is not controlled nor is pretest-treatment interac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ic-group comparison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at least two nonrandomly formed groups.  One group receives an experimental treatment and the other group receives the traditional treatment. Both groups are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of groups can be expanded beyond tw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roups are better described as comparison, not experimental and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does not control for maturation, selection effects, selection interactions, and morta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control for history in this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is sometimes used in exploratory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test-posttest control group desig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t least two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s are formed by random assignm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groups are administered a pretest, each group receives a different treatment and both groups are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gn may be extended to include additional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bination of random assignment and the presence of a pretest and a control group serve to control for all threats to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ly potential weakness in this design is a possible interaction between the pretest and the treat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hould report assess and report the probability of a pretest-treatment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independent variable is also called the treatment, causal, or experimental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dependent variable is also called the criterion, effect, or posttes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 few variations on the basic pretest-posttest control group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ariation includes random assignment of matched pairs to the treatment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little advantage to this vari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variation of this design involves one or more additional post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test-only control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is the same as the pretest-posttest control group design except that it lacks a pre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is often expanded to include more than two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sttest-only control group design is best used when there is likelihood of a pretest-treatment interaction thr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with the pretest-posttest control group design, the addition of a matched random assignment does not represent an increased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omon Four-Group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mbination of the pretest-posttest control group design and the posttest-only control group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alysis of the Solomon four-group design is a 2 x 2 factorial analysis of vari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tests if those who received the treatment performed differently than those who did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can assess if there is a testing eff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assesses for pretest-interactio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omon four-group design requires a large number of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omon four-group design may not always be the best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gn selected should be based upon potential threats and the nature of the proposed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t is not possible to assign participants to groups randomly, researchers can use quasi-experimental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equivalent control group desig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or more treatment groups are pretested, administered a treatment, and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nequivalent control group desig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the random assignment of groups not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ck of random assignment introduces validity threats (e.g., regression, and selection interaction effec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threats when using this design researchers often assure groups are as equivalent as possible (e.g., use ANCOV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-series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laboration of the pretest-posttest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group is repeatedly pretested until pretest scores are stable. The group is then exposed to a treatment and after treatment is repeatedly posttest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tion of the time-series design is the multiple time-series design that includes a contro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variation eliminates the history and instrumentation thre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s the most structured of all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onducted well, experimental research studies can provide evidence for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experimental studies taken together can provide support for generalization of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 is a threat with time-series desig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tion may also be a threat if testing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test threats are problematic with time-series designs.  However, it is relatively easy to establish the degree of the threat given data from repeated tes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terbalanced desig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groups receive all treatments but in a different order and all groups are posttested after each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erbalanced designs can include any number of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groups is equal to the number of treat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order is randomly assig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nique threat with a counter-balanced design is multiple treatment inte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ial Design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elaborations on single-variable experimental designs to permit investigation of two or more variables, at least one of which is manipulated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al designs are often employed after an independent variable has first been investigated individ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a factorial design is to determine whether the effects of an independent variable are generalizable across all lev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example of a factorial design is the 2 X 2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instruction (computer-based or paper and pencil) by gen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actors (independent variables) studies are possible to address specific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eps in the experimental research process are the same as in other types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and defining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participants and measuring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ing a research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ng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th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ng 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, the researcher controls selection and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tudies often examine comparisons between or among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approaches (A versus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an approach to an existing approach (A versus no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different amounts of a single approach (A little of A versus a lot of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group that receives the treatment is the experimental group and the group that does not receive the treatment is called the contro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groups are comparison groups that receive alternative treatments (e.g., two types of instruction in a content area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20T18:15:45Z</dcterms:modified>
  <cp:revision>163</cp:revision>
  <dc:subject/>
  <dc:title>AutoCAD Architecture 2008: Part I: Getting Started</dc:title>
</cp:coreProperties>
</file>